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9DC3-00B9-4AE6-BF7E-C1FF463F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B02A-F3A9-46FF-AF15-32C2900B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8EED-F31A-4CF1-9116-6321436B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A443-2770-4336-90B3-69F0B3C2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E0AB-215F-4198-BA3D-EE3F4AE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6524-5A01-4A8F-B86D-6B43441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E4E0-0730-415D-BBCE-A0F6CEF3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635-06D0-4629-B192-C16FB9B0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076-546A-46C9-8267-DDF44D8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26FC-230B-4580-8A1A-1B3140DD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AFE-B564-45D8-BA7A-E8E1994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D474-8D26-4649-B033-B07195A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4A4B-7DF6-447E-96E2-2A2E25D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7E9-6ECC-428F-8571-D7529D6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1878-319E-4CA0-B5F7-6EDF139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9656-656D-45EA-8BA3-F191421C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CED-AAA7-4D98-941E-8DFDBA4C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DF60-9BEF-4AFA-9FC6-71EACBF3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DEDF-7417-425F-81EE-62BA7730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0B53-E7B0-450A-878C-343E530A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5093-2481-40E8-9C39-AAB419E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BC9E-402D-4528-8201-F4C602D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A37A-7079-4199-BD64-792B790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F193-C258-492F-A845-93C5930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251B-3584-4497-8232-6503E434D0D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0D1B-5E84-4A0E-85CE-36784D67038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环节  创设情境  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77640" y="1444680"/>
            <a:ext cx="47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两个仓库，要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侧的河岸边建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码头，使它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两个仓库的距离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码头应建在什么位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7" descr=""/>
          <p:cNvPicPr/>
          <p:nvPr/>
        </p:nvPicPr>
        <p:blipFill>
          <a:blip r:embed="rId1"/>
          <a:stretch/>
        </p:blipFill>
        <p:spPr>
          <a:xfrm>
            <a:off x="3852720" y="2637000"/>
            <a:ext cx="3529080" cy="2379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5877000"/>
            <a:ext cx="107928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97120" y="2059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是一个真命题吗？如果是真命题，请你加以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6660360" y="2492280"/>
            <a:ext cx="2055240" cy="1366560"/>
            <a:chOff x="6660360" y="2492280"/>
            <a:chExt cx="2055240" cy="1366560"/>
          </a:xfrm>
        </p:grpSpPr>
        <p:sp>
          <p:nvSpPr>
            <p:cNvPr id="292" name="Line 10"/>
            <p:cNvSpPr/>
            <p:nvPr/>
          </p:nvSpPr>
          <p:spPr>
            <a:xfrm>
              <a:off x="6821280" y="359460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 flipH="1">
              <a:off x="6820920" y="2678040"/>
              <a:ext cx="90396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7725240" y="359460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7725240" y="2678040"/>
              <a:ext cx="90468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8"/>
            <p:cNvGrpSpPr/>
            <p:nvPr/>
          </p:nvGrpSpPr>
          <p:grpSpPr>
            <a:xfrm>
              <a:off x="8579160" y="3583800"/>
              <a:ext cx="136440" cy="275040"/>
              <a:chOff x="8579160" y="3583800"/>
              <a:chExt cx="136440" cy="275040"/>
            </a:xfrm>
          </p:grpSpPr>
          <p:sp>
            <p:nvSpPr>
              <p:cNvPr id="297" name="Rectangle 20"/>
              <p:cNvSpPr/>
              <p:nvPr/>
            </p:nvSpPr>
            <p:spPr>
              <a:xfrm>
                <a:off x="8579880" y="358380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1"/>
              <p:cNvSpPr/>
              <p:nvPr/>
            </p:nvSpPr>
            <p:spPr>
              <a:xfrm>
                <a:off x="8579160" y="35838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1"/>
            <p:cNvGrpSpPr/>
            <p:nvPr/>
          </p:nvGrpSpPr>
          <p:grpSpPr>
            <a:xfrm>
              <a:off x="7494120" y="2492280"/>
              <a:ext cx="124200" cy="275040"/>
              <a:chOff x="7494120" y="2492280"/>
              <a:chExt cx="124200" cy="275040"/>
            </a:xfrm>
          </p:grpSpPr>
          <p:sp>
            <p:nvSpPr>
              <p:cNvPr id="300" name="Rectangle 23"/>
              <p:cNvSpPr/>
              <p:nvPr/>
            </p:nvSpPr>
            <p:spPr>
              <a:xfrm>
                <a:off x="7494840" y="249228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4"/>
              <p:cNvSpPr/>
              <p:nvPr/>
            </p:nvSpPr>
            <p:spPr>
              <a:xfrm>
                <a:off x="7494120" y="249228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4"/>
            <p:cNvGrpSpPr/>
            <p:nvPr/>
          </p:nvGrpSpPr>
          <p:grpSpPr>
            <a:xfrm>
              <a:off x="6660360" y="3563640"/>
              <a:ext cx="136440" cy="275040"/>
              <a:chOff x="6660360" y="3563640"/>
              <a:chExt cx="136440" cy="275040"/>
            </a:xfrm>
          </p:grpSpPr>
          <p:sp>
            <p:nvSpPr>
              <p:cNvPr id="303" name="Rectangle 26"/>
              <p:cNvSpPr/>
              <p:nvPr/>
            </p:nvSpPr>
            <p:spPr>
              <a:xfrm>
                <a:off x="6661080" y="356364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7"/>
              <p:cNvSpPr/>
              <p:nvPr/>
            </p:nvSpPr>
            <p:spPr>
              <a:xfrm>
                <a:off x="6660360" y="35636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Rectangle 4"/>
          <p:cNvSpPr/>
          <p:nvPr/>
        </p:nvSpPr>
        <p:spPr>
          <a:xfrm>
            <a:off x="395280" y="256536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1052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点到一条线段两个端点的距离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点在这条线段的垂直平分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1258920" y="558972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3132000" y="5589720"/>
            <a:ext cx="1368720" cy="576000"/>
          </a:xfrm>
          <a:custGeom>
            <a:avLst/>
            <a:gdLst>
              <a:gd name="textAreaLeft" fmla="*/ 37080 w 1368720"/>
              <a:gd name="textAreaRight" fmla="*/ 1331640 w 13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308" h="21600">
                <a:moveTo>
                  <a:pt x="0" y="0"/>
                </a:moveTo>
                <a:lnTo>
                  <a:pt x="51308" y="0"/>
                </a:lnTo>
                <a:lnTo>
                  <a:pt x="51308" y="21600"/>
                </a:lnTo>
                <a:lnTo>
                  <a:pt x="0" y="21600"/>
                </a:lnTo>
                <a:close/>
              </a:path>
              <a:path fill="lightenLess" w="51308" h="21600">
                <a:moveTo>
                  <a:pt x="0" y="0"/>
                </a:moveTo>
                <a:lnTo>
                  <a:pt x="51308" y="0"/>
                </a:lnTo>
                <a:lnTo>
                  <a:pt x="49908" y="1400"/>
                </a:lnTo>
                <a:lnTo>
                  <a:pt x="1400" y="1400"/>
                </a:lnTo>
                <a:close/>
              </a:path>
              <a:path fill="darken" w="51308" h="21600">
                <a:moveTo>
                  <a:pt x="51308" y="0"/>
                </a:moveTo>
                <a:lnTo>
                  <a:pt x="51308" y="21600"/>
                </a:lnTo>
                <a:lnTo>
                  <a:pt x="49908" y="20200"/>
                </a:lnTo>
                <a:lnTo>
                  <a:pt x="49908" y="1400"/>
                </a:lnTo>
                <a:close/>
              </a:path>
              <a:path fill="darkenLess" w="51308" h="21600">
                <a:moveTo>
                  <a:pt x="51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08" y="20200"/>
                </a:lnTo>
                <a:close/>
              </a:path>
              <a:path fill="lighten" w="51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5219640" y="5589720"/>
            <a:ext cx="1081080" cy="57600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529" h="21600">
                <a:moveTo>
                  <a:pt x="0" y="0"/>
                </a:moveTo>
                <a:lnTo>
                  <a:pt x="40529" y="0"/>
                </a:lnTo>
                <a:lnTo>
                  <a:pt x="40529" y="21600"/>
                </a:lnTo>
                <a:lnTo>
                  <a:pt x="0" y="21600"/>
                </a:lnTo>
                <a:close/>
              </a:path>
              <a:path fill="lightenLess" w="40529" h="21600">
                <a:moveTo>
                  <a:pt x="0" y="0"/>
                </a:moveTo>
                <a:lnTo>
                  <a:pt x="40529" y="0"/>
                </a:lnTo>
                <a:lnTo>
                  <a:pt x="39129" y="1400"/>
                </a:lnTo>
                <a:lnTo>
                  <a:pt x="1400" y="1400"/>
                </a:lnTo>
                <a:close/>
              </a:path>
              <a:path fill="darken" w="40529" h="21600">
                <a:moveTo>
                  <a:pt x="40529" y="0"/>
                </a:moveTo>
                <a:lnTo>
                  <a:pt x="40529" y="21600"/>
                </a:lnTo>
                <a:lnTo>
                  <a:pt x="39129" y="20200"/>
                </a:lnTo>
                <a:lnTo>
                  <a:pt x="39129" y="1400"/>
                </a:lnTo>
                <a:close/>
              </a:path>
              <a:path fill="darkenLess" w="40529" h="21600">
                <a:moveTo>
                  <a:pt x="40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29" y="20200"/>
                </a:lnTo>
                <a:close/>
              </a:path>
              <a:path fill="lighten" w="40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574760" y="2421000"/>
            <a:ext cx="165600" cy="1670040"/>
            <a:chOff x="7574760" y="2421000"/>
            <a:chExt cx="165600" cy="1670040"/>
          </a:xfrm>
        </p:grpSpPr>
        <p:grpSp>
          <p:nvGrpSpPr>
            <p:cNvPr id="311" name="Group 6"/>
            <p:cNvGrpSpPr/>
            <p:nvPr/>
          </p:nvGrpSpPr>
          <p:grpSpPr>
            <a:xfrm>
              <a:off x="7574760" y="3578400"/>
              <a:ext cx="136440" cy="272880"/>
              <a:chOff x="7574760" y="3578400"/>
              <a:chExt cx="136440" cy="272880"/>
            </a:xfrm>
          </p:grpSpPr>
          <p:sp>
            <p:nvSpPr>
              <p:cNvPr id="312" name="Rectangle 17"/>
              <p:cNvSpPr/>
              <p:nvPr/>
            </p:nvSpPr>
            <p:spPr>
              <a:xfrm>
                <a:off x="7596360" y="3578400"/>
                <a:ext cx="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7574760" y="35784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Line 16"/>
            <p:cNvSpPr/>
            <p:nvPr/>
          </p:nvSpPr>
          <p:spPr>
            <a:xfrm>
              <a:off x="7739640" y="2421000"/>
              <a:ext cx="720" cy="1670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2997360"/>
            <a:ext cx="56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9640" y="13906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判定定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一条线段两个端点距离相等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线段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垂直平分线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1270080"/>
            <a:ext cx="9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3645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A=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Trebuchet MS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rebuchet MS"/>
              </a:rPr>
              <a:t>在线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垂直平分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3"/>
          <p:cNvGrpSpPr/>
          <p:nvPr/>
        </p:nvGrpSpPr>
        <p:grpSpPr>
          <a:xfrm>
            <a:off x="5723640" y="2565360"/>
            <a:ext cx="2055960" cy="1653840"/>
            <a:chOff x="5723640" y="2565360"/>
            <a:chExt cx="2055960" cy="1653840"/>
          </a:xfrm>
        </p:grpSpPr>
        <p:sp>
          <p:nvSpPr>
            <p:cNvPr id="320" name="Line 10"/>
            <p:cNvSpPr/>
            <p:nvPr/>
          </p:nvSpPr>
          <p:spPr>
            <a:xfrm>
              <a:off x="5884560" y="3899160"/>
              <a:ext cx="903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 flipH="1">
              <a:off x="5884200" y="2790360"/>
              <a:ext cx="903960" cy="110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6788880" y="3899160"/>
              <a:ext cx="905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6788880" y="2790360"/>
              <a:ext cx="905040" cy="110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"/>
            <p:cNvGrpSpPr/>
            <p:nvPr/>
          </p:nvGrpSpPr>
          <p:grpSpPr>
            <a:xfrm>
              <a:off x="7643160" y="3886200"/>
              <a:ext cx="136440" cy="333000"/>
              <a:chOff x="7643160" y="3886200"/>
              <a:chExt cx="136440" cy="333000"/>
            </a:xfrm>
          </p:grpSpPr>
          <p:sp>
            <p:nvSpPr>
              <p:cNvPr id="325" name="Rectangle 20"/>
              <p:cNvSpPr/>
              <p:nvPr/>
            </p:nvSpPr>
            <p:spPr>
              <a:xfrm>
                <a:off x="7643520" y="3886200"/>
                <a:ext cx="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1"/>
              <p:cNvSpPr/>
              <p:nvPr/>
            </p:nvSpPr>
            <p:spPr>
              <a:xfrm>
                <a:off x="7643160" y="38862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1"/>
            <p:cNvGrpSpPr/>
            <p:nvPr/>
          </p:nvGrpSpPr>
          <p:grpSpPr>
            <a:xfrm>
              <a:off x="6557400" y="2565360"/>
              <a:ext cx="124200" cy="333000"/>
              <a:chOff x="6557400" y="2565360"/>
              <a:chExt cx="124200" cy="333000"/>
            </a:xfrm>
          </p:grpSpPr>
          <p:sp>
            <p:nvSpPr>
              <p:cNvPr id="328" name="Rectangle 23"/>
              <p:cNvSpPr/>
              <p:nvPr/>
            </p:nvSpPr>
            <p:spPr>
              <a:xfrm>
                <a:off x="6558120" y="2565360"/>
                <a:ext cx="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4"/>
              <p:cNvSpPr/>
              <p:nvPr/>
            </p:nvSpPr>
            <p:spPr>
              <a:xfrm>
                <a:off x="6557400" y="256536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4"/>
            <p:cNvGrpSpPr/>
            <p:nvPr/>
          </p:nvGrpSpPr>
          <p:grpSpPr>
            <a:xfrm>
              <a:off x="5723640" y="3862080"/>
              <a:ext cx="136440" cy="333000"/>
              <a:chOff x="5723640" y="3862080"/>
              <a:chExt cx="136440" cy="333000"/>
            </a:xfrm>
          </p:grpSpPr>
          <p:sp>
            <p:nvSpPr>
              <p:cNvPr id="331" name="Rectangle 26"/>
              <p:cNvSpPr/>
              <p:nvPr/>
            </p:nvSpPr>
            <p:spPr>
              <a:xfrm>
                <a:off x="5724360" y="3862080"/>
                <a:ext cx="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7"/>
              <p:cNvSpPr/>
              <p:nvPr/>
            </p:nvSpPr>
            <p:spPr>
              <a:xfrm>
                <a:off x="5723640" y="38620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30700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符号语言表示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17920" y="4581360"/>
            <a:ext cx="53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里只能确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一个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在线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垂直平分线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但不能说明经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点的直线就是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线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垂直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59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环节  实际应用，归纳提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1360" y="1124280"/>
            <a:ext cx="50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：如图，在 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= 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 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一点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=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365200" cy="2381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22680" y="2281680"/>
            <a:ext cx="42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直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直平分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299736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AB=AC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（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  ∴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</a:rPr>
              <a:t>点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</a:rPr>
              <a:t>在线段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的垂直平分线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线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垂直平分线判定定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OB=OC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（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在线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垂直平分线上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线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垂直平分线判定定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直线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AO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垂直平分线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点确 定一条直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51880" y="446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551808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归纳： 逆定理可以作为线段垂直平分线的判定，但必须是经过满足条件的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个点的直 线才是线段的垂直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27280" y="58770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6059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四环节  实际应用，归纳提高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64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403520" cy="18352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37"/>
          <p:cNvSpPr/>
          <p:nvPr/>
        </p:nvSpPr>
        <p:spPr>
          <a:xfrm>
            <a:off x="2038320" y="2843280"/>
            <a:ext cx="39672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8618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观察与思考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观察下面用尺规作线段垂直平分线的步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这种作法的依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6840" y="2774880"/>
            <a:ext cx="360" cy="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643920"/>
            <a:ext cx="92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一：分别以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圆心，以固定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长的一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半径画弧，两弧分别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二：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直线，则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垂直平分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尺规作线段垂直平分线的依据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486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到一条线段两个端点距离相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，在这条线段的垂直平分线上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1080" y="587700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引例中找码头地点的作法依据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08360" y="580536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177640" y="1195560"/>
            <a:ext cx="47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两个仓库，要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侧的河岸边建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码头，使它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两个仓库的距离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码头应建在什么位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图片 7" descr=""/>
          <p:cNvPicPr/>
          <p:nvPr/>
        </p:nvPicPr>
        <p:blipFill>
          <a:blip r:embed="rId1"/>
          <a:stretch/>
        </p:blipFill>
        <p:spPr>
          <a:xfrm>
            <a:off x="3708360" y="2997360"/>
            <a:ext cx="3529080" cy="2379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 rot="18637200">
            <a:off x="5387760" y="258300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49680" y="3213000"/>
            <a:ext cx="1677960" cy="576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317800">
            <a:off x="4393080" y="240048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8455800">
            <a:off x="3955320" y="272196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329600">
            <a:off x="5039640" y="294516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88000" y="2276640"/>
            <a:ext cx="1079280" cy="26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30480" y="5373720"/>
            <a:ext cx="36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头应建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19120" y="600084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论依据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778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环节：课堂小结，知识升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1377000"/>
            <a:ext cx="74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这节课的学习你有哪些新的收获？还有哪些困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2792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1917720"/>
            <a:ext cx="83534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性质定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线段垂直平分线上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到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这条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两个端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距离相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判定定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到一条线段两个端点距离相等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这条线段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垂直平分线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几何符号语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线段垂直平分线的性质定理及其定理进行了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逆定理作为线段垂直平分线的判定，但必须是经过满足条件的 （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）个点的直线才是线段的垂直平分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通过对定理的证明体会理解证明的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严谨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运用两个定理解决简单的实际问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26920" y="2060640"/>
            <a:ext cx="777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93680" y="2019240"/>
            <a:ext cx="715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62160" y="2755800"/>
            <a:ext cx="68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6922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54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513440" y="533520"/>
            <a:ext cx="5436000" cy="5943600"/>
            <a:chOff x="1513440" y="533520"/>
            <a:chExt cx="5436000" cy="5943600"/>
          </a:xfrm>
        </p:grpSpPr>
        <p:grpSp>
          <p:nvGrpSpPr>
            <p:cNvPr id="374" name=""/>
            <p:cNvGrpSpPr/>
            <p:nvPr/>
          </p:nvGrpSpPr>
          <p:grpSpPr>
            <a:xfrm>
              <a:off x="1513440" y="533520"/>
              <a:ext cx="5436000" cy="5943600"/>
              <a:chOff x="1513440" y="533520"/>
              <a:chExt cx="5436000" cy="5943600"/>
            </a:xfrm>
          </p:grpSpPr>
          <p:sp>
            <p:nvSpPr>
              <p:cNvPr id="375" name=""/>
              <p:cNvSpPr/>
              <p:nvPr/>
            </p:nvSpPr>
            <p:spPr>
              <a:xfrm>
                <a:off x="2144520" y="4038840"/>
                <a:ext cx="4191120" cy="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01920" y="533520"/>
                <a:ext cx="0" cy="59436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13440" y="38102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66040" y="3810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251960" y="421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4177440" y="369612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Marlett"/>
                  <a:ea typeface="Marlett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144880" y="1143000"/>
            <a:ext cx="4190400" cy="2895480"/>
            <a:chOff x="2144880" y="1143000"/>
            <a:chExt cx="4190400" cy="2895480"/>
          </a:xfrm>
        </p:grpSpPr>
        <p:grpSp>
          <p:nvGrpSpPr>
            <p:cNvPr id="382" name=""/>
            <p:cNvGrpSpPr/>
            <p:nvPr/>
          </p:nvGrpSpPr>
          <p:grpSpPr>
            <a:xfrm>
              <a:off x="2144880" y="1371600"/>
              <a:ext cx="4190400" cy="2666880"/>
              <a:chOff x="2144880" y="1371600"/>
              <a:chExt cx="4190400" cy="26668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2144880" y="1371600"/>
                <a:ext cx="2057040" cy="2666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01920" y="1371600"/>
                <a:ext cx="2133360" cy="2666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4059360" y="11430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144880" y="4038120"/>
            <a:ext cx="4190400" cy="1831680"/>
            <a:chOff x="2144880" y="4038120"/>
            <a:chExt cx="4190400" cy="1831680"/>
          </a:xfrm>
        </p:grpSpPr>
        <p:grpSp>
          <p:nvGrpSpPr>
            <p:cNvPr id="387" name=""/>
            <p:cNvGrpSpPr/>
            <p:nvPr/>
          </p:nvGrpSpPr>
          <p:grpSpPr>
            <a:xfrm>
              <a:off x="2144880" y="4038120"/>
              <a:ext cx="4190400" cy="1600200"/>
              <a:chOff x="2144880" y="4038120"/>
              <a:chExt cx="4190400" cy="1600200"/>
            </a:xfrm>
          </p:grpSpPr>
          <p:sp>
            <p:nvSpPr>
              <p:cNvPr id="388" name=""/>
              <p:cNvSpPr/>
              <p:nvPr/>
            </p:nvSpPr>
            <p:spPr>
              <a:xfrm flipH="1" flipV="1">
                <a:off x="2144880" y="4038120"/>
                <a:ext cx="2057040" cy="1600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201920" y="4038120"/>
                <a:ext cx="2133360" cy="1600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059360" y="54100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220480" y="4038120"/>
            <a:ext cx="4115160" cy="1374480"/>
            <a:chOff x="2220480" y="4038120"/>
            <a:chExt cx="4115160" cy="1374480"/>
          </a:xfrm>
        </p:grpSpPr>
        <p:grpSp>
          <p:nvGrpSpPr>
            <p:cNvPr id="392" name=""/>
            <p:cNvGrpSpPr/>
            <p:nvPr/>
          </p:nvGrpSpPr>
          <p:grpSpPr>
            <a:xfrm>
              <a:off x="2220480" y="4038120"/>
              <a:ext cx="4115160" cy="1143000"/>
              <a:chOff x="2220480" y="4038120"/>
              <a:chExt cx="4115160" cy="1143000"/>
            </a:xfrm>
          </p:grpSpPr>
          <p:sp>
            <p:nvSpPr>
              <p:cNvPr id="393" name=""/>
              <p:cNvSpPr/>
              <p:nvPr/>
            </p:nvSpPr>
            <p:spPr>
              <a:xfrm flipH="1" flipV="1">
                <a:off x="2220480" y="4038120"/>
                <a:ext cx="1981080" cy="1143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4201920" y="4038120"/>
                <a:ext cx="2133720" cy="1143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059360" y="49528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123640" y="4005000"/>
            <a:ext cx="4191480" cy="917280"/>
            <a:chOff x="2123640" y="4005000"/>
            <a:chExt cx="4191480" cy="917280"/>
          </a:xfrm>
        </p:grpSpPr>
        <p:grpSp>
          <p:nvGrpSpPr>
            <p:cNvPr id="397" name=""/>
            <p:cNvGrpSpPr/>
            <p:nvPr/>
          </p:nvGrpSpPr>
          <p:grpSpPr>
            <a:xfrm>
              <a:off x="2123640" y="4005000"/>
              <a:ext cx="4191480" cy="685800"/>
              <a:chOff x="2123640" y="4005000"/>
              <a:chExt cx="4191480" cy="685800"/>
            </a:xfrm>
          </p:grpSpPr>
          <p:sp>
            <p:nvSpPr>
              <p:cNvPr id="398" name=""/>
              <p:cNvSpPr/>
              <p:nvPr/>
            </p:nvSpPr>
            <p:spPr>
              <a:xfrm flipH="1" flipV="1">
                <a:off x="2123640" y="4005000"/>
                <a:ext cx="2057400" cy="685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181400" y="4005000"/>
                <a:ext cx="2133720" cy="685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038840" y="446256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20480" y="3962520"/>
            <a:ext cx="4115160" cy="459720"/>
            <a:chOff x="2220480" y="3962520"/>
            <a:chExt cx="4115160" cy="459720"/>
          </a:xfrm>
        </p:grpSpPr>
        <p:grpSp>
          <p:nvGrpSpPr>
            <p:cNvPr id="402" name=""/>
            <p:cNvGrpSpPr/>
            <p:nvPr/>
          </p:nvGrpSpPr>
          <p:grpSpPr>
            <a:xfrm>
              <a:off x="2220480" y="4038480"/>
              <a:ext cx="4115160" cy="152280"/>
              <a:chOff x="2220480" y="4038480"/>
              <a:chExt cx="4115160" cy="152280"/>
            </a:xfrm>
          </p:grpSpPr>
          <p:sp>
            <p:nvSpPr>
              <p:cNvPr id="403" name=""/>
              <p:cNvSpPr/>
              <p:nvPr/>
            </p:nvSpPr>
            <p:spPr>
              <a:xfrm flipH="1" flipV="1">
                <a:off x="2220480" y="4038480"/>
                <a:ext cx="1981080" cy="152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201920" y="4038480"/>
                <a:ext cx="2133720" cy="152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059360" y="396252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144520" y="3505320"/>
            <a:ext cx="4115160" cy="532800"/>
            <a:chOff x="2144520" y="3505320"/>
            <a:chExt cx="4115160" cy="532800"/>
          </a:xfrm>
        </p:grpSpPr>
        <p:grpSp>
          <p:nvGrpSpPr>
            <p:cNvPr id="407" name=""/>
            <p:cNvGrpSpPr/>
            <p:nvPr/>
          </p:nvGrpSpPr>
          <p:grpSpPr>
            <a:xfrm>
              <a:off x="2144520" y="3733560"/>
              <a:ext cx="4115160" cy="304560"/>
              <a:chOff x="2144520" y="3733560"/>
              <a:chExt cx="4115160" cy="30456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2144520" y="3733560"/>
                <a:ext cx="2057400" cy="30456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02280" y="3733560"/>
                <a:ext cx="2057400" cy="30456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4059720" y="350532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144880" y="2971800"/>
            <a:ext cx="4190400" cy="1066680"/>
            <a:chOff x="2144880" y="2971800"/>
            <a:chExt cx="4190400" cy="1066680"/>
          </a:xfrm>
        </p:grpSpPr>
        <p:grpSp>
          <p:nvGrpSpPr>
            <p:cNvPr id="412" name=""/>
            <p:cNvGrpSpPr/>
            <p:nvPr/>
          </p:nvGrpSpPr>
          <p:grpSpPr>
            <a:xfrm>
              <a:off x="2144880" y="3200400"/>
              <a:ext cx="4190400" cy="838080"/>
              <a:chOff x="2144880" y="3200400"/>
              <a:chExt cx="4190400" cy="83808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2144880" y="3200400"/>
                <a:ext cx="2057040" cy="8380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01920" y="3200400"/>
                <a:ext cx="2133360" cy="8380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4059360" y="29718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144880" y="2514600"/>
            <a:ext cx="4190400" cy="1523880"/>
            <a:chOff x="2144880" y="2514600"/>
            <a:chExt cx="4190400" cy="1523880"/>
          </a:xfrm>
        </p:grpSpPr>
        <p:grpSp>
          <p:nvGrpSpPr>
            <p:cNvPr id="417" name=""/>
            <p:cNvGrpSpPr/>
            <p:nvPr/>
          </p:nvGrpSpPr>
          <p:grpSpPr>
            <a:xfrm>
              <a:off x="2144880" y="2743200"/>
              <a:ext cx="4190400" cy="1295280"/>
              <a:chOff x="2144880" y="2743200"/>
              <a:chExt cx="4190400" cy="129528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2144880" y="2743200"/>
                <a:ext cx="2057040" cy="1295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01920" y="2743200"/>
                <a:ext cx="2133360" cy="1295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4059360" y="25146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193280" y="981000"/>
            <a:ext cx="468720" cy="5117040"/>
            <a:chOff x="4193280" y="981000"/>
            <a:chExt cx="468720" cy="5117040"/>
          </a:xfrm>
        </p:grpSpPr>
        <p:sp>
          <p:nvSpPr>
            <p:cNvPr id="422" name=""/>
            <p:cNvSpPr/>
            <p:nvPr/>
          </p:nvSpPr>
          <p:spPr>
            <a:xfrm>
              <a:off x="4193280" y="981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45840" y="5638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144880" y="2057400"/>
            <a:ext cx="4190400" cy="1981080"/>
            <a:chOff x="2144880" y="2057400"/>
            <a:chExt cx="4190400" cy="1981080"/>
          </a:xfrm>
        </p:grpSpPr>
        <p:grpSp>
          <p:nvGrpSpPr>
            <p:cNvPr id="425" name=""/>
            <p:cNvGrpSpPr/>
            <p:nvPr/>
          </p:nvGrpSpPr>
          <p:grpSpPr>
            <a:xfrm>
              <a:off x="2144880" y="2286000"/>
              <a:ext cx="4190400" cy="1752480"/>
              <a:chOff x="2144880" y="2286000"/>
              <a:chExt cx="4190400" cy="175248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2144880" y="2286000"/>
                <a:ext cx="2057040" cy="175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01920" y="2286000"/>
                <a:ext cx="2133360" cy="175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059360" y="20574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144880" y="1523880"/>
            <a:ext cx="4190400" cy="2514600"/>
            <a:chOff x="2144880" y="1523880"/>
            <a:chExt cx="4190400" cy="2514600"/>
          </a:xfrm>
        </p:grpSpPr>
        <p:grpSp>
          <p:nvGrpSpPr>
            <p:cNvPr id="430" name=""/>
            <p:cNvGrpSpPr/>
            <p:nvPr/>
          </p:nvGrpSpPr>
          <p:grpSpPr>
            <a:xfrm>
              <a:off x="2144880" y="1752480"/>
              <a:ext cx="4190400" cy="2286000"/>
              <a:chOff x="2144880" y="1752480"/>
              <a:chExt cx="4190400" cy="2286000"/>
            </a:xfrm>
          </p:grpSpPr>
          <p:sp>
            <p:nvSpPr>
              <p:cNvPr id="431" name=""/>
              <p:cNvSpPr/>
              <p:nvPr/>
            </p:nvSpPr>
            <p:spPr>
              <a:xfrm flipH="1">
                <a:off x="2144880" y="1752480"/>
                <a:ext cx="2057040" cy="2286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201920" y="1752480"/>
                <a:ext cx="2133360" cy="2286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059360" y="15238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9640" y="333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际上线段的垂直平分线  可以看成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线段两个端点距离相等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所有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集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476280"/>
            <a:ext cx="0" cy="60199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1125360"/>
            <a:ext cx="67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5180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7d"/>
                </a:solidFill>
                <a:latin typeface="方正行楷简体"/>
                <a:ea typeface="方正行楷简体"/>
              </a:rPr>
              <a:t>归纳总结  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9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9151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六环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标检测，知识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600" y="1339920"/>
            <a:ext cx="542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=5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分线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5" descr="www.xkb1.com              新课标第一网不用注册，免费下载！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516720" y="620640"/>
            <a:ext cx="1942920" cy="1656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-1660680" y="2793960"/>
            <a:ext cx="911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22755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已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=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垂直平分线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周长等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5280" y="3573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 ∴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EA=E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段垂直平分线性质定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周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BC+EC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E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周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BC+EC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EA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量代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C=EC+EA=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周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BC+AC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BC=50-27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28160" y="162864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5 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7020000" y="2637000"/>
            <a:ext cx="1760400" cy="1944000"/>
            <a:chOff x="7020000" y="2637000"/>
            <a:chExt cx="1760400" cy="1944000"/>
          </a:xfrm>
        </p:grpSpPr>
        <p:grpSp>
          <p:nvGrpSpPr>
            <p:cNvPr id="446" name="Group 74"/>
            <p:cNvGrpSpPr/>
            <p:nvPr/>
          </p:nvGrpSpPr>
          <p:grpSpPr>
            <a:xfrm>
              <a:off x="7236000" y="2923920"/>
              <a:ext cx="1398600" cy="1452240"/>
              <a:chOff x="7236000" y="2923920"/>
              <a:chExt cx="1398600" cy="1452240"/>
            </a:xfrm>
          </p:grpSpPr>
          <p:sp>
            <p:nvSpPr>
              <p:cNvPr id="447" name="AutoShape 67"/>
              <p:cNvSpPr/>
              <p:nvPr/>
            </p:nvSpPr>
            <p:spPr>
              <a:xfrm>
                <a:off x="7278120" y="2923920"/>
                <a:ext cx="1213560" cy="1452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70"/>
              <p:cNvSpPr/>
              <p:nvPr/>
            </p:nvSpPr>
            <p:spPr>
              <a:xfrm>
                <a:off x="7236000" y="3553200"/>
                <a:ext cx="1398600" cy="52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73"/>
              <p:cNvSpPr/>
              <p:nvPr/>
            </p:nvSpPr>
            <p:spPr>
              <a:xfrm flipV="1">
                <a:off x="7286760" y="3965400"/>
                <a:ext cx="1046160" cy="40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75"/>
            <p:cNvSpPr/>
            <p:nvPr/>
          </p:nvSpPr>
          <p:spPr>
            <a:xfrm>
              <a:off x="7669440" y="2637000"/>
              <a:ext cx="466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6"/>
            <p:cNvSpPr/>
            <p:nvPr/>
          </p:nvSpPr>
          <p:spPr>
            <a:xfrm>
              <a:off x="7020000" y="42210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77"/>
            <p:cNvSpPr/>
            <p:nvPr/>
          </p:nvSpPr>
          <p:spPr>
            <a:xfrm>
              <a:off x="8460000" y="4221000"/>
              <a:ext cx="3204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78"/>
            <p:cNvSpPr/>
            <p:nvPr/>
          </p:nvSpPr>
          <p:spPr>
            <a:xfrm>
              <a:off x="7380360" y="3357360"/>
              <a:ext cx="2746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9"/>
            <p:cNvSpPr/>
            <p:nvPr/>
          </p:nvSpPr>
          <p:spPr>
            <a:xfrm>
              <a:off x="8244000" y="3644640"/>
              <a:ext cx="3888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1320840" y="2682720"/>
            <a:ext cx="911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23040" y="1411200"/>
            <a:ext cx="58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A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=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垂直平分线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连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六环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达标检测，知识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2781360"/>
            <a:ext cx="66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B=AC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AC=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C=(1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)/2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等边对等角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∴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FB=F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段垂直平分线性质定理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B=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等边对等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FC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+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三角形外角和定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FC=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+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651640" y="1701720"/>
            <a:ext cx="3276000" cy="1512360"/>
            <a:chOff x="5651640" y="1701720"/>
            <a:chExt cx="3276000" cy="1512360"/>
          </a:xfrm>
        </p:grpSpPr>
        <p:grpSp>
          <p:nvGrpSpPr>
            <p:cNvPr id="460" name=""/>
            <p:cNvGrpSpPr/>
            <p:nvPr/>
          </p:nvGrpSpPr>
          <p:grpSpPr>
            <a:xfrm>
              <a:off x="5651640" y="1701720"/>
              <a:ext cx="3276000" cy="1512360"/>
              <a:chOff x="5651640" y="1701720"/>
              <a:chExt cx="3276000" cy="1512360"/>
            </a:xfrm>
          </p:grpSpPr>
          <p:grpSp>
            <p:nvGrpSpPr>
              <p:cNvPr id="461" name="Group 57"/>
              <p:cNvGrpSpPr/>
              <p:nvPr/>
            </p:nvGrpSpPr>
            <p:grpSpPr>
              <a:xfrm>
                <a:off x="6006600" y="2110320"/>
                <a:ext cx="2626200" cy="897840"/>
                <a:chOff x="6006600" y="2110320"/>
                <a:chExt cx="2626200" cy="897840"/>
              </a:xfrm>
            </p:grpSpPr>
            <p:sp>
              <p:nvSpPr>
                <p:cNvPr id="462" name="AutoShape 52"/>
                <p:cNvSpPr/>
                <p:nvPr/>
              </p:nvSpPr>
              <p:spPr>
                <a:xfrm>
                  <a:off x="6006600" y="2110320"/>
                  <a:ext cx="2626200" cy="70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 flipH="1">
                  <a:off x="6899040" y="2118960"/>
                  <a:ext cx="425880" cy="71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56"/>
                <p:cNvSpPr/>
                <p:nvPr/>
              </p:nvSpPr>
              <p:spPr>
                <a:xfrm>
                  <a:off x="6513120" y="2208240"/>
                  <a:ext cx="537120" cy="79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Text Box 60"/>
              <p:cNvSpPr/>
              <p:nvPr/>
            </p:nvSpPr>
            <p:spPr>
              <a:xfrm>
                <a:off x="7016760" y="1701720"/>
                <a:ext cx="4208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61"/>
              <p:cNvSpPr/>
              <p:nvPr/>
            </p:nvSpPr>
            <p:spPr>
              <a:xfrm>
                <a:off x="5651640" y="2527200"/>
                <a:ext cx="42120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62"/>
              <p:cNvSpPr/>
              <p:nvPr/>
            </p:nvSpPr>
            <p:spPr>
              <a:xfrm>
                <a:off x="8506440" y="2577240"/>
                <a:ext cx="42120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63"/>
              <p:cNvSpPr/>
              <p:nvPr/>
            </p:nvSpPr>
            <p:spPr>
              <a:xfrm>
                <a:off x="6636960" y="2794320"/>
                <a:ext cx="4201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64"/>
              <p:cNvSpPr/>
              <p:nvPr/>
            </p:nvSpPr>
            <p:spPr>
              <a:xfrm>
                <a:off x="6288120" y="2146320"/>
                <a:ext cx="42120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056360" y="2254320"/>
              <a:ext cx="82080" cy="14436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45" y="84"/>
                    <a:pt x="52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46840" y="228744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19640" y="2614680"/>
              <a:ext cx="144000" cy="1681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0" y="15"/>
                  </a:moveTo>
                  <a:cubicBezTo>
                    <a:pt x="15" y="7"/>
                    <a:pt x="31" y="0"/>
                    <a:pt x="46" y="15"/>
                  </a:cubicBezTo>
                  <a:cubicBezTo>
                    <a:pt x="61" y="30"/>
                    <a:pt x="76" y="68"/>
                    <a:pt x="91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62480" y="250344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4278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谢谢各位老师、同学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2360" y="1773360"/>
            <a:ext cx="6507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第一章 三角形的证明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7515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线段的垂直平分线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9800" y="56610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9800" y="57974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开七中      薛太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5"/>
          <p:cNvGrpSpPr/>
          <p:nvPr/>
        </p:nvGrpSpPr>
        <p:grpSpPr>
          <a:xfrm>
            <a:off x="7092360" y="1125360"/>
            <a:ext cx="412560" cy="1670400"/>
            <a:chOff x="7092360" y="1125360"/>
            <a:chExt cx="412560" cy="1670400"/>
          </a:xfrm>
        </p:grpSpPr>
        <p:grpSp>
          <p:nvGrpSpPr>
            <p:cNvPr id="476" name="Group 6"/>
            <p:cNvGrpSpPr/>
            <p:nvPr/>
          </p:nvGrpSpPr>
          <p:grpSpPr>
            <a:xfrm>
              <a:off x="7092360" y="2259000"/>
              <a:ext cx="136440" cy="273600"/>
              <a:chOff x="7092360" y="2259000"/>
              <a:chExt cx="136440" cy="273600"/>
            </a:xfrm>
          </p:grpSpPr>
          <p:sp>
            <p:nvSpPr>
              <p:cNvPr id="477" name="Rectangle 17"/>
              <p:cNvSpPr/>
              <p:nvPr/>
            </p:nvSpPr>
            <p:spPr>
              <a:xfrm>
                <a:off x="7093080" y="2259000"/>
                <a:ext cx="108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8"/>
              <p:cNvSpPr/>
              <p:nvPr/>
            </p:nvSpPr>
            <p:spPr>
              <a:xfrm>
                <a:off x="7092360" y="22590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9"/>
            <p:cNvGrpSpPr/>
            <p:nvPr/>
          </p:nvGrpSpPr>
          <p:grpSpPr>
            <a:xfrm>
              <a:off x="7399080" y="1125360"/>
              <a:ext cx="105840" cy="1670400"/>
              <a:chOff x="7399080" y="1125360"/>
              <a:chExt cx="105840" cy="1670400"/>
            </a:xfrm>
          </p:grpSpPr>
          <p:sp>
            <p:nvSpPr>
              <p:cNvPr id="480" name="Line 16"/>
              <p:cNvSpPr/>
              <p:nvPr/>
            </p:nvSpPr>
            <p:spPr>
              <a:xfrm>
                <a:off x="7399080" y="1125360"/>
                <a:ext cx="1080" cy="167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4"/>
              <p:cNvSpPr/>
              <p:nvPr/>
            </p:nvSpPr>
            <p:spPr>
              <a:xfrm>
                <a:off x="7399080" y="2206440"/>
                <a:ext cx="10476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5"/>
              <p:cNvSpPr/>
              <p:nvPr/>
            </p:nvSpPr>
            <p:spPr>
              <a:xfrm>
                <a:off x="7503840" y="2206440"/>
                <a:ext cx="108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13"/>
          <p:cNvGrpSpPr/>
          <p:nvPr/>
        </p:nvGrpSpPr>
        <p:grpSpPr>
          <a:xfrm>
            <a:off x="6371640" y="1197000"/>
            <a:ext cx="2055240" cy="1366560"/>
            <a:chOff x="6371640" y="1197000"/>
            <a:chExt cx="2055240" cy="1366560"/>
          </a:xfrm>
        </p:grpSpPr>
        <p:sp>
          <p:nvSpPr>
            <p:cNvPr id="484" name="Line 10"/>
            <p:cNvSpPr/>
            <p:nvPr/>
          </p:nvSpPr>
          <p:spPr>
            <a:xfrm>
              <a:off x="6532560" y="229932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 flipH="1">
              <a:off x="6532200" y="1382760"/>
              <a:ext cx="90396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7436520" y="229932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>
              <a:off x="7436520" y="1382760"/>
              <a:ext cx="90468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18"/>
            <p:cNvGrpSpPr/>
            <p:nvPr/>
          </p:nvGrpSpPr>
          <p:grpSpPr>
            <a:xfrm>
              <a:off x="8290440" y="2288520"/>
              <a:ext cx="136440" cy="275040"/>
              <a:chOff x="8290440" y="2288520"/>
              <a:chExt cx="136440" cy="275040"/>
            </a:xfrm>
          </p:grpSpPr>
          <p:sp>
            <p:nvSpPr>
              <p:cNvPr id="489" name="Rectangle 20"/>
              <p:cNvSpPr/>
              <p:nvPr/>
            </p:nvSpPr>
            <p:spPr>
              <a:xfrm>
                <a:off x="8291160" y="228852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1"/>
              <p:cNvSpPr/>
              <p:nvPr/>
            </p:nvSpPr>
            <p:spPr>
              <a:xfrm>
                <a:off x="8290440" y="228852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7205400" y="1197000"/>
              <a:ext cx="124200" cy="275040"/>
              <a:chOff x="7205400" y="1197000"/>
              <a:chExt cx="124200" cy="275040"/>
            </a:xfrm>
          </p:grpSpPr>
          <p:sp>
            <p:nvSpPr>
              <p:cNvPr id="492" name="Rectangle 23"/>
              <p:cNvSpPr/>
              <p:nvPr/>
            </p:nvSpPr>
            <p:spPr>
              <a:xfrm>
                <a:off x="7206120" y="119700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4"/>
              <p:cNvSpPr/>
              <p:nvPr/>
            </p:nvSpPr>
            <p:spPr>
              <a:xfrm>
                <a:off x="7205400" y="119700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4"/>
            <p:cNvGrpSpPr/>
            <p:nvPr/>
          </p:nvGrpSpPr>
          <p:grpSpPr>
            <a:xfrm>
              <a:off x="6371640" y="2268360"/>
              <a:ext cx="136440" cy="275040"/>
              <a:chOff x="6371640" y="2268360"/>
              <a:chExt cx="136440" cy="275040"/>
            </a:xfrm>
          </p:grpSpPr>
          <p:sp>
            <p:nvSpPr>
              <p:cNvPr id="495" name="Rectangle 26"/>
              <p:cNvSpPr/>
              <p:nvPr/>
            </p:nvSpPr>
            <p:spPr>
              <a:xfrm>
                <a:off x="6372360" y="226836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7"/>
              <p:cNvSpPr/>
              <p:nvPr/>
            </p:nvSpPr>
            <p:spPr>
              <a:xfrm>
                <a:off x="6371640" y="22683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4"/>
          <p:cNvSpPr/>
          <p:nvPr/>
        </p:nvSpPr>
        <p:spPr>
          <a:xfrm>
            <a:off x="324000" y="1197000"/>
            <a:ext cx="67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044720" y="2349360"/>
            <a:ext cx="849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过点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作垂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⊥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垂足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作法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中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三线合一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C=B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∴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点在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上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垂直平分线定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920" y="1125360"/>
            <a:ext cx="965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802800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证明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作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中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所在直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中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作法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三线合一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∴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点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上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垂直平分线定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3"/>
          <p:cNvGrpSpPr/>
          <p:nvPr/>
        </p:nvGrpSpPr>
        <p:grpSpPr>
          <a:xfrm>
            <a:off x="6516000" y="2060640"/>
            <a:ext cx="2055240" cy="1366560"/>
            <a:chOff x="6516000" y="2060640"/>
            <a:chExt cx="2055240" cy="1366560"/>
          </a:xfrm>
        </p:grpSpPr>
        <p:sp>
          <p:nvSpPr>
            <p:cNvPr id="505" name="Line 10"/>
            <p:cNvSpPr/>
            <p:nvPr/>
          </p:nvSpPr>
          <p:spPr>
            <a:xfrm>
              <a:off x="6676920" y="316296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 flipH="1">
              <a:off x="6676560" y="2246400"/>
              <a:ext cx="90396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7580880" y="316296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7580880" y="2246400"/>
              <a:ext cx="90468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18"/>
            <p:cNvGrpSpPr/>
            <p:nvPr/>
          </p:nvGrpSpPr>
          <p:grpSpPr>
            <a:xfrm>
              <a:off x="8434800" y="3152160"/>
              <a:ext cx="136440" cy="275040"/>
              <a:chOff x="8434800" y="3152160"/>
              <a:chExt cx="136440" cy="275040"/>
            </a:xfrm>
          </p:grpSpPr>
          <p:sp>
            <p:nvSpPr>
              <p:cNvPr id="510" name="Rectangle 20"/>
              <p:cNvSpPr/>
              <p:nvPr/>
            </p:nvSpPr>
            <p:spPr>
              <a:xfrm>
                <a:off x="8435520" y="315216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1"/>
              <p:cNvSpPr/>
              <p:nvPr/>
            </p:nvSpPr>
            <p:spPr>
              <a:xfrm>
                <a:off x="8434800" y="31521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21"/>
            <p:cNvGrpSpPr/>
            <p:nvPr/>
          </p:nvGrpSpPr>
          <p:grpSpPr>
            <a:xfrm>
              <a:off x="7349760" y="2060640"/>
              <a:ext cx="124200" cy="275040"/>
              <a:chOff x="7349760" y="2060640"/>
              <a:chExt cx="124200" cy="275040"/>
            </a:xfrm>
          </p:grpSpPr>
          <p:sp>
            <p:nvSpPr>
              <p:cNvPr id="513" name="Rectangle 23"/>
              <p:cNvSpPr/>
              <p:nvPr/>
            </p:nvSpPr>
            <p:spPr>
              <a:xfrm>
                <a:off x="7350480" y="206064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4"/>
              <p:cNvSpPr/>
              <p:nvPr/>
            </p:nvSpPr>
            <p:spPr>
              <a:xfrm>
                <a:off x="7349760" y="206064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24"/>
            <p:cNvGrpSpPr/>
            <p:nvPr/>
          </p:nvGrpSpPr>
          <p:grpSpPr>
            <a:xfrm>
              <a:off x="6516000" y="3132000"/>
              <a:ext cx="136440" cy="275040"/>
              <a:chOff x="6516000" y="3132000"/>
              <a:chExt cx="136440" cy="275040"/>
            </a:xfrm>
          </p:grpSpPr>
          <p:sp>
            <p:nvSpPr>
              <p:cNvPr id="516" name="Rectangle 26"/>
              <p:cNvSpPr/>
              <p:nvPr/>
            </p:nvSpPr>
            <p:spPr>
              <a:xfrm>
                <a:off x="6516720" y="313200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7"/>
              <p:cNvSpPr/>
              <p:nvPr/>
            </p:nvSpPr>
            <p:spPr>
              <a:xfrm>
                <a:off x="6516000" y="31320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7368480" y="1995480"/>
            <a:ext cx="210240" cy="1670040"/>
            <a:chOff x="7368480" y="1995480"/>
            <a:chExt cx="210240" cy="1670040"/>
          </a:xfrm>
        </p:grpSpPr>
        <p:grpSp>
          <p:nvGrpSpPr>
            <p:cNvPr id="519" name="Group 6"/>
            <p:cNvGrpSpPr/>
            <p:nvPr/>
          </p:nvGrpSpPr>
          <p:grpSpPr>
            <a:xfrm>
              <a:off x="7368480" y="3152880"/>
              <a:ext cx="136440" cy="272880"/>
              <a:chOff x="7368480" y="3152880"/>
              <a:chExt cx="136440" cy="272880"/>
            </a:xfrm>
          </p:grpSpPr>
          <p:sp>
            <p:nvSpPr>
              <p:cNvPr id="520" name="Rectangle 17"/>
              <p:cNvSpPr/>
              <p:nvPr/>
            </p:nvSpPr>
            <p:spPr>
              <a:xfrm>
                <a:off x="7369200" y="3152880"/>
                <a:ext cx="108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8"/>
              <p:cNvSpPr/>
              <p:nvPr/>
            </p:nvSpPr>
            <p:spPr>
              <a:xfrm>
                <a:off x="7368480" y="31528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Line 16"/>
            <p:cNvSpPr/>
            <p:nvPr/>
          </p:nvSpPr>
          <p:spPr>
            <a:xfrm>
              <a:off x="7577280" y="1995480"/>
              <a:ext cx="1440" cy="1670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802800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证明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作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角平分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所在直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∵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又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角平分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作法知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=B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等腰三角形 中“三线合一 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点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3"/>
          <p:cNvGrpSpPr/>
          <p:nvPr/>
        </p:nvGrpSpPr>
        <p:grpSpPr>
          <a:xfrm>
            <a:off x="6516000" y="2060640"/>
            <a:ext cx="2055240" cy="1368000"/>
            <a:chOff x="6516000" y="2060640"/>
            <a:chExt cx="2055240" cy="1368000"/>
          </a:xfrm>
        </p:grpSpPr>
        <p:sp>
          <p:nvSpPr>
            <p:cNvPr id="527" name="Line 10"/>
            <p:cNvSpPr/>
            <p:nvPr/>
          </p:nvSpPr>
          <p:spPr>
            <a:xfrm>
              <a:off x="6676920" y="316404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1"/>
            <p:cNvSpPr/>
            <p:nvPr/>
          </p:nvSpPr>
          <p:spPr>
            <a:xfrm flipH="1">
              <a:off x="6676560" y="2246760"/>
              <a:ext cx="903960" cy="9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7580880" y="316404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7580880" y="2246760"/>
              <a:ext cx="904680" cy="9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18"/>
            <p:cNvGrpSpPr/>
            <p:nvPr/>
          </p:nvGrpSpPr>
          <p:grpSpPr>
            <a:xfrm>
              <a:off x="8434800" y="3153240"/>
              <a:ext cx="136440" cy="275400"/>
              <a:chOff x="8434800" y="3153240"/>
              <a:chExt cx="136440" cy="275400"/>
            </a:xfrm>
          </p:grpSpPr>
          <p:sp>
            <p:nvSpPr>
              <p:cNvPr id="532" name="Rectangle 20"/>
              <p:cNvSpPr/>
              <p:nvPr/>
            </p:nvSpPr>
            <p:spPr>
              <a:xfrm>
                <a:off x="8435520" y="3153240"/>
                <a:ext cx="7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8434800" y="31532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21"/>
            <p:cNvGrpSpPr/>
            <p:nvPr/>
          </p:nvGrpSpPr>
          <p:grpSpPr>
            <a:xfrm>
              <a:off x="7349760" y="2060640"/>
              <a:ext cx="124200" cy="275400"/>
              <a:chOff x="7349760" y="2060640"/>
              <a:chExt cx="124200" cy="275400"/>
            </a:xfrm>
          </p:grpSpPr>
          <p:sp>
            <p:nvSpPr>
              <p:cNvPr id="535" name="Rectangle 23"/>
              <p:cNvSpPr/>
              <p:nvPr/>
            </p:nvSpPr>
            <p:spPr>
              <a:xfrm>
                <a:off x="7350480" y="2060640"/>
                <a:ext cx="7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4"/>
              <p:cNvSpPr/>
              <p:nvPr/>
            </p:nvSpPr>
            <p:spPr>
              <a:xfrm>
                <a:off x="7349760" y="206064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4"/>
            <p:cNvGrpSpPr/>
            <p:nvPr/>
          </p:nvGrpSpPr>
          <p:grpSpPr>
            <a:xfrm>
              <a:off x="6516000" y="3133440"/>
              <a:ext cx="136440" cy="275400"/>
              <a:chOff x="6516000" y="3133440"/>
              <a:chExt cx="136440" cy="275400"/>
            </a:xfrm>
          </p:grpSpPr>
          <p:sp>
            <p:nvSpPr>
              <p:cNvPr id="538" name="Rectangle 26"/>
              <p:cNvSpPr/>
              <p:nvPr/>
            </p:nvSpPr>
            <p:spPr>
              <a:xfrm>
                <a:off x="6516720" y="3133440"/>
                <a:ext cx="7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27"/>
              <p:cNvSpPr/>
              <p:nvPr/>
            </p:nvSpPr>
            <p:spPr>
              <a:xfrm>
                <a:off x="6516000" y="31334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7368480" y="1995480"/>
            <a:ext cx="210240" cy="1670040"/>
            <a:chOff x="7368480" y="1995480"/>
            <a:chExt cx="210240" cy="1670040"/>
          </a:xfrm>
        </p:grpSpPr>
        <p:grpSp>
          <p:nvGrpSpPr>
            <p:cNvPr id="541" name="Group 6"/>
            <p:cNvGrpSpPr/>
            <p:nvPr/>
          </p:nvGrpSpPr>
          <p:grpSpPr>
            <a:xfrm>
              <a:off x="7368480" y="3152880"/>
              <a:ext cx="136440" cy="272880"/>
              <a:chOff x="7368480" y="3152880"/>
              <a:chExt cx="136440" cy="272880"/>
            </a:xfrm>
          </p:grpSpPr>
          <p:sp>
            <p:nvSpPr>
              <p:cNvPr id="542" name="Rectangle 17"/>
              <p:cNvSpPr/>
              <p:nvPr/>
            </p:nvSpPr>
            <p:spPr>
              <a:xfrm>
                <a:off x="7369200" y="3152880"/>
                <a:ext cx="108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8"/>
              <p:cNvSpPr/>
              <p:nvPr/>
            </p:nvSpPr>
            <p:spPr>
              <a:xfrm>
                <a:off x="7368480" y="31528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Line 16"/>
            <p:cNvSpPr/>
            <p:nvPr/>
          </p:nvSpPr>
          <p:spPr>
            <a:xfrm>
              <a:off x="7577280" y="1995480"/>
              <a:ext cx="1440" cy="1670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802800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5720" y="2308320"/>
            <a:ext cx="46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线段垂直平分线上的点到这条线段两个端点的距离相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4272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1160" y="177264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命题的条件和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35772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点在线段的垂直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点到这条线段两个端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5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6680" y="8359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根据条件和结论写出已知和求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2541600"/>
            <a:ext cx="10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28464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=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53040" y="2565360"/>
            <a:ext cx="43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⊥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垂足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=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的任意一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468360" y="3657600"/>
            <a:ext cx="648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∵  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⊥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∴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A=∠PCB=9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垂直定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C=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=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∴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A≌△P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AS)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全等三角形的对应边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00360" y="2182680"/>
            <a:ext cx="2530800" cy="1176480"/>
            <a:chOff x="6300360" y="2182680"/>
            <a:chExt cx="2530800" cy="1176480"/>
          </a:xfrm>
        </p:grpSpPr>
        <p:sp>
          <p:nvSpPr>
            <p:cNvPr id="128" name=""/>
            <p:cNvSpPr/>
            <p:nvPr/>
          </p:nvSpPr>
          <p:spPr>
            <a:xfrm flipH="1">
              <a:off x="6300360" y="2182680"/>
              <a:ext cx="1265400" cy="11764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66120" y="2182680"/>
              <a:ext cx="1265040" cy="11764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760960" y="3346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412760" y="1631880"/>
            <a:ext cx="94320" cy="182880"/>
            <a:chOff x="7412760" y="1631880"/>
            <a:chExt cx="94320" cy="182880"/>
          </a:xfrm>
        </p:grpSpPr>
        <p:sp>
          <p:nvSpPr>
            <p:cNvPr id="132" name=""/>
            <p:cNvSpPr/>
            <p:nvPr/>
          </p:nvSpPr>
          <p:spPr>
            <a:xfrm>
              <a:off x="7412760" y="1631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13480" y="163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74640" y="3321000"/>
            <a:ext cx="2788920" cy="208440"/>
            <a:chOff x="6074640" y="3321000"/>
            <a:chExt cx="2788920" cy="208440"/>
          </a:xfrm>
        </p:grpSpPr>
        <p:grpSp>
          <p:nvGrpSpPr>
            <p:cNvPr id="135" name=""/>
            <p:cNvGrpSpPr/>
            <p:nvPr/>
          </p:nvGrpSpPr>
          <p:grpSpPr>
            <a:xfrm>
              <a:off x="6300720" y="3357360"/>
              <a:ext cx="2529000" cy="1440"/>
              <a:chOff x="6300720" y="3357360"/>
              <a:chExt cx="2529000" cy="1440"/>
            </a:xfrm>
          </p:grpSpPr>
          <p:sp>
            <p:nvSpPr>
              <p:cNvPr id="136" name=""/>
              <p:cNvSpPr/>
              <p:nvPr/>
            </p:nvSpPr>
            <p:spPr>
              <a:xfrm>
                <a:off x="7562880" y="3357360"/>
                <a:ext cx="126684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00720" y="3358800"/>
                <a:ext cx="126540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8760600" y="3346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75000" y="3321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4640" y="3321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516800" y="1876320"/>
            <a:ext cx="360360" cy="1996920"/>
            <a:chOff x="7516800" y="1876320"/>
            <a:chExt cx="360360" cy="1996920"/>
          </a:xfrm>
        </p:grpSpPr>
        <p:sp>
          <p:nvSpPr>
            <p:cNvPr id="142" name=""/>
            <p:cNvSpPr/>
            <p:nvPr/>
          </p:nvSpPr>
          <p:spPr>
            <a:xfrm flipH="1">
              <a:off x="7536960" y="1876320"/>
              <a:ext cx="1116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6800" y="3504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00800" y="1488960"/>
            <a:ext cx="432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07200" y="1454040"/>
            <a:ext cx="5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240680" y="3216240"/>
            <a:ext cx="431640" cy="426240"/>
            <a:chOff x="7240680" y="3216240"/>
            <a:chExt cx="431640" cy="426240"/>
          </a:xfrm>
        </p:grpSpPr>
        <p:sp>
          <p:nvSpPr>
            <p:cNvPr id="147" name=""/>
            <p:cNvSpPr/>
            <p:nvPr/>
          </p:nvSpPr>
          <p:spPr>
            <a:xfrm>
              <a:off x="7240680" y="333540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516800" y="3216240"/>
              <a:ext cx="142920" cy="144360"/>
              <a:chOff x="7516800" y="3216240"/>
              <a:chExt cx="142920" cy="144360"/>
            </a:xfrm>
          </p:grpSpPr>
          <p:sp>
            <p:nvSpPr>
              <p:cNvPr id="149" name=""/>
              <p:cNvSpPr/>
              <p:nvPr/>
            </p:nvSpPr>
            <p:spPr>
              <a:xfrm>
                <a:off x="7516800" y="32162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59720" y="32162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395280" y="1270080"/>
            <a:ext cx="6840360" cy="1259640"/>
            <a:chOff x="395280" y="1270080"/>
            <a:chExt cx="6840360" cy="1259640"/>
          </a:xfrm>
        </p:grpSpPr>
        <p:sp>
          <p:nvSpPr>
            <p:cNvPr id="152" name=""/>
            <p:cNvSpPr/>
            <p:nvPr/>
          </p:nvSpPr>
          <p:spPr>
            <a:xfrm>
              <a:off x="395280" y="1338480"/>
              <a:ext cx="68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果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270080"/>
              <a:ext cx="43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个点在线段的垂直平分线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191664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这个点到这条线段两个端点的距离相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718080"/>
            <a:ext cx="8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71808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7600" y="1450080"/>
            <a:ext cx="4728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性质定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线段垂直平分线上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条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两个端点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距离相等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520" y="3573360"/>
            <a:ext cx="7993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垂直平分线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直线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39640" y="2276640"/>
            <a:ext cx="2788560" cy="2382120"/>
            <a:chOff x="5939640" y="2276640"/>
            <a:chExt cx="2788560" cy="2382120"/>
          </a:xfrm>
        </p:grpSpPr>
        <p:grpSp>
          <p:nvGrpSpPr>
            <p:cNvPr id="161" name=""/>
            <p:cNvGrpSpPr/>
            <p:nvPr/>
          </p:nvGrpSpPr>
          <p:grpSpPr>
            <a:xfrm>
              <a:off x="5939640" y="2276640"/>
              <a:ext cx="2788560" cy="2382120"/>
              <a:chOff x="5939640" y="2276640"/>
              <a:chExt cx="2788560" cy="238212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5939640" y="2419200"/>
                <a:ext cx="2788560" cy="2239560"/>
                <a:chOff x="5939640" y="2419200"/>
                <a:chExt cx="2788560" cy="223956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5939640" y="2419200"/>
                  <a:ext cx="2788560" cy="2086920"/>
                  <a:chOff x="5939640" y="2419200"/>
                  <a:chExt cx="2788560" cy="20869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428240" y="4143600"/>
                    <a:ext cx="1264680" cy="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939640" y="2419200"/>
                    <a:ext cx="2788560" cy="1894680"/>
                    <a:chOff x="5939640" y="2419200"/>
                    <a:chExt cx="2788560" cy="189468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66080" y="4144320"/>
                      <a:ext cx="1264680" cy="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H="1">
                      <a:off x="6165720" y="2970000"/>
                      <a:ext cx="1264680" cy="117432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430760" y="2970000"/>
                      <a:ext cx="1265040" cy="117432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8625240" y="4131000"/>
                      <a:ext cx="102960" cy="182880"/>
                      <a:chOff x="8625240" y="4131000"/>
                      <a:chExt cx="102960" cy="182880"/>
                    </a:xfrm>
                  </p:grpSpPr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8625240" y="413100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8625240" y="413100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B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7277400" y="2419200"/>
                      <a:ext cx="94680" cy="182880"/>
                      <a:chOff x="7277400" y="2419200"/>
                      <a:chExt cx="94680" cy="18288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7277400" y="241920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7278480" y="2419200"/>
                        <a:ext cx="9360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5939640" y="4105440"/>
                      <a:ext cx="102960" cy="182880"/>
                      <a:chOff x="5939640" y="4105440"/>
                      <a:chExt cx="102960" cy="18288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939640" y="410544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5939640" y="410544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8" name=""/>
                  <p:cNvSpPr/>
                  <p:nvPr/>
                </p:nvSpPr>
                <p:spPr>
                  <a:xfrm flipH="1">
                    <a:off x="7401600" y="2662560"/>
                    <a:ext cx="11520" cy="184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7381800" y="42904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7165800" y="2276640"/>
                <a:ext cx="43200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92720" y="28504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105680" y="412164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381800" y="4002480"/>
              <a:ext cx="142920" cy="144000"/>
              <a:chOff x="7381800" y="4002480"/>
              <a:chExt cx="142920" cy="144000"/>
            </a:xfrm>
          </p:grpSpPr>
          <p:sp>
            <p:nvSpPr>
              <p:cNvPr id="184" name=""/>
              <p:cNvSpPr/>
              <p:nvPr/>
            </p:nvSpPr>
            <p:spPr>
              <a:xfrm>
                <a:off x="7381800" y="40024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24720" y="4002480"/>
                <a:ext cx="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95280" y="3068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几何推理符号语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么表示性质定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6560" y="429264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013360"/>
            <a:ext cx="56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写成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PA=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65560" y="127044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结合以上内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图形中你还能得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292000" y="909720"/>
            <a:ext cx="2788560" cy="2384280"/>
            <a:chOff x="5292000" y="909720"/>
            <a:chExt cx="2788560" cy="2384280"/>
          </a:xfrm>
        </p:grpSpPr>
        <p:grpSp>
          <p:nvGrpSpPr>
            <p:cNvPr id="192" name=""/>
            <p:cNvGrpSpPr/>
            <p:nvPr/>
          </p:nvGrpSpPr>
          <p:grpSpPr>
            <a:xfrm>
              <a:off x="5292000" y="909720"/>
              <a:ext cx="2788560" cy="2384280"/>
              <a:chOff x="5292000" y="909720"/>
              <a:chExt cx="2788560" cy="23842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5292000" y="1052640"/>
                <a:ext cx="2788560" cy="2241360"/>
                <a:chOff x="5292000" y="1052640"/>
                <a:chExt cx="2788560" cy="22413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5292000" y="1052640"/>
                  <a:ext cx="2788560" cy="2088360"/>
                  <a:chOff x="5292000" y="1052640"/>
                  <a:chExt cx="2788560" cy="20883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780600" y="2778480"/>
                    <a:ext cx="1264680" cy="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292000" y="1052640"/>
                    <a:ext cx="2788560" cy="1895760"/>
                    <a:chOff x="5292000" y="1052640"/>
                    <a:chExt cx="2788560" cy="189576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5518440" y="2779200"/>
                      <a:ext cx="1264680" cy="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5518080" y="1603800"/>
                      <a:ext cx="1264680" cy="117504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6783120" y="1603800"/>
                      <a:ext cx="1265040" cy="117504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0" name=""/>
                    <p:cNvGrpSpPr/>
                    <p:nvPr/>
                  </p:nvGrpSpPr>
                  <p:grpSpPr>
                    <a:xfrm>
                      <a:off x="7977600" y="2765520"/>
                      <a:ext cx="102960" cy="182880"/>
                      <a:chOff x="7977600" y="2765520"/>
                      <a:chExt cx="102960" cy="182880"/>
                    </a:xfrm>
                  </p:grpSpPr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7977600" y="276552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7977600" y="276552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B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6629760" y="1052640"/>
                      <a:ext cx="94680" cy="182880"/>
                      <a:chOff x="6629760" y="1052640"/>
                      <a:chExt cx="94680" cy="18288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6629760" y="105264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6630840" y="1052640"/>
                        <a:ext cx="9360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5292000" y="2739960"/>
                      <a:ext cx="102960" cy="182880"/>
                      <a:chOff x="5292000" y="2739960"/>
                      <a:chExt cx="102960" cy="18288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5292000" y="273996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5292000" y="273996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09" name=""/>
                  <p:cNvSpPr/>
                  <p:nvPr/>
                </p:nvSpPr>
                <p:spPr>
                  <a:xfrm flipH="1">
                    <a:off x="6753960" y="1296000"/>
                    <a:ext cx="11520" cy="1845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6734160" y="292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518160" y="909720"/>
                <a:ext cx="43200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45080" y="14842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458040" y="27561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734160" y="2637000"/>
              <a:ext cx="142920" cy="144360"/>
              <a:chOff x="6734160" y="2637000"/>
              <a:chExt cx="142920" cy="144360"/>
            </a:xfrm>
          </p:grpSpPr>
          <p:sp>
            <p:nvSpPr>
              <p:cNvPr id="215" name=""/>
              <p:cNvSpPr/>
              <p:nvPr/>
            </p:nvSpPr>
            <p:spPr>
              <a:xfrm>
                <a:off x="6734160" y="2637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77080" y="2637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95280" y="3573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等腰三角形  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A=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B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  “三线合一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线段的垂直平线是它的一条对称轴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75480" y="11257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用新知，反馈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91600" y="1842120"/>
            <a:ext cx="710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图，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=7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=6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62280" y="3886200"/>
            <a:ext cx="3219480" cy="1560600"/>
            <a:chOff x="5462280" y="3886200"/>
            <a:chExt cx="3219480" cy="1560600"/>
          </a:xfrm>
        </p:grpSpPr>
        <p:sp>
          <p:nvSpPr>
            <p:cNvPr id="223" name=""/>
            <p:cNvSpPr/>
            <p:nvPr/>
          </p:nvSpPr>
          <p:spPr>
            <a:xfrm>
              <a:off x="7580160" y="4030560"/>
              <a:ext cx="0" cy="1246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36720" y="4030560"/>
              <a:ext cx="1243080" cy="627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7080" y="4657680"/>
              <a:ext cx="1243080" cy="619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5400" y="4657680"/>
              <a:ext cx="0" cy="1285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5400" y="4786200"/>
              <a:ext cx="104760" cy="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62280" y="4657680"/>
              <a:ext cx="321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618320" y="3886200"/>
              <a:ext cx="127080" cy="274680"/>
              <a:chOff x="7618320" y="3886200"/>
              <a:chExt cx="127080" cy="274680"/>
            </a:xfrm>
          </p:grpSpPr>
          <p:sp>
            <p:nvSpPr>
              <p:cNvPr id="230" name=""/>
              <p:cNvSpPr/>
              <p:nvPr/>
            </p:nvSpPr>
            <p:spPr>
              <a:xfrm>
                <a:off x="7618320" y="38862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8320" y="38862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470200" y="4681440"/>
              <a:ext cx="127080" cy="274680"/>
              <a:chOff x="5470200" y="4681440"/>
              <a:chExt cx="127080" cy="274680"/>
            </a:xfrm>
          </p:grpSpPr>
          <p:sp>
            <p:nvSpPr>
              <p:cNvPr id="233" name=""/>
              <p:cNvSpPr/>
              <p:nvPr/>
            </p:nvSpPr>
            <p:spPr>
              <a:xfrm>
                <a:off x="5470200" y="46814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70200" y="46814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618320" y="5172120"/>
              <a:ext cx="137880" cy="274680"/>
              <a:chOff x="7618320" y="5172120"/>
              <a:chExt cx="137880" cy="274680"/>
            </a:xfrm>
          </p:grpSpPr>
          <p:sp>
            <p:nvSpPr>
              <p:cNvPr id="236" name=""/>
              <p:cNvSpPr/>
              <p:nvPr/>
            </p:nvSpPr>
            <p:spPr>
              <a:xfrm>
                <a:off x="7618320" y="517212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18320" y="517212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515080" y="4689360"/>
              <a:ext cx="127080" cy="274680"/>
              <a:chOff x="8515080" y="4689360"/>
              <a:chExt cx="127080" cy="274680"/>
            </a:xfrm>
          </p:grpSpPr>
          <p:sp>
            <p:nvSpPr>
              <p:cNvPr id="239" name=""/>
              <p:cNvSpPr/>
              <p:nvPr/>
            </p:nvSpPr>
            <p:spPr>
              <a:xfrm>
                <a:off x="8515080" y="46893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515080" y="46893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238800" y="4681440"/>
              <a:ext cx="127080" cy="274680"/>
              <a:chOff x="6238800" y="4681440"/>
              <a:chExt cx="127080" cy="274680"/>
            </a:xfrm>
          </p:grpSpPr>
          <p:sp>
            <p:nvSpPr>
              <p:cNvPr id="242" name=""/>
              <p:cNvSpPr/>
              <p:nvPr/>
            </p:nvSpPr>
            <p:spPr>
              <a:xfrm>
                <a:off x="6238800" y="46814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38800" y="46814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4427640" y="2492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3213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640" y="1125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1360" y="1626840"/>
            <a:ext cx="58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：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两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=∠E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283360" y="2333520"/>
            <a:ext cx="2903400" cy="1671480"/>
            <a:chOff x="5283360" y="2333520"/>
            <a:chExt cx="2903400" cy="1671480"/>
          </a:xfrm>
        </p:grpSpPr>
        <p:sp>
          <p:nvSpPr>
            <p:cNvPr id="251" name=""/>
            <p:cNvSpPr/>
            <p:nvPr/>
          </p:nvSpPr>
          <p:spPr>
            <a:xfrm>
              <a:off x="7220160" y="2489040"/>
              <a:ext cx="29988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198920" y="3168720"/>
              <a:ext cx="32868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4720" y="3141720"/>
              <a:ext cx="3081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283360" y="2333520"/>
              <a:ext cx="2903400" cy="1671480"/>
              <a:chOff x="5283360" y="2333520"/>
              <a:chExt cx="2903400" cy="1671480"/>
            </a:xfrm>
          </p:grpSpPr>
          <p:sp>
            <p:nvSpPr>
              <p:cNvPr id="255" name=""/>
              <p:cNvSpPr/>
              <p:nvPr/>
            </p:nvSpPr>
            <p:spPr>
              <a:xfrm>
                <a:off x="7193160" y="2490840"/>
                <a:ext cx="0" cy="13525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072120" y="2490840"/>
                <a:ext cx="1120680" cy="680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72480" y="3171600"/>
                <a:ext cx="1120680" cy="671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97760" y="3171600"/>
                <a:ext cx="0" cy="13968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97760" y="3311280"/>
                <a:ext cx="95400" cy="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83360" y="3171600"/>
                <a:ext cx="290340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7227720" y="2333520"/>
                <a:ext cx="145440" cy="274680"/>
                <a:chOff x="7227720" y="2333520"/>
                <a:chExt cx="145440" cy="274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228080" y="23335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227720" y="233352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89480" y="3197160"/>
                <a:ext cx="145440" cy="274680"/>
                <a:chOff x="5289480" y="3197160"/>
                <a:chExt cx="145440" cy="274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289840" y="319716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89480" y="319716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227000" y="3730680"/>
                <a:ext cx="157680" cy="274320"/>
                <a:chOff x="7227000" y="3730680"/>
                <a:chExt cx="157680" cy="274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228080" y="3730680"/>
                  <a:ext cx="14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227000" y="3730680"/>
                  <a:ext cx="157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8035560" y="3206520"/>
                <a:ext cx="145440" cy="274680"/>
                <a:chOff x="8035560" y="3206520"/>
                <a:chExt cx="145440" cy="274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035920" y="32065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35560" y="320652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983200" y="3197160"/>
                <a:ext cx="145440" cy="274680"/>
                <a:chOff x="5983200" y="3197160"/>
                <a:chExt cx="145440" cy="274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983560" y="319716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3200" y="319716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"/>
          <p:cNvSpPr/>
          <p:nvPr/>
        </p:nvSpPr>
        <p:spPr>
          <a:xfrm>
            <a:off x="905040" y="3584520"/>
            <a:ext cx="48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3357720"/>
            <a:ext cx="83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线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垂直平分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EC=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FC=F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段垂直平分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的点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线段两个端点的距离相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又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EF=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ECF=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E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全等三角形的对应角相等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522936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EFC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EF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1000" y="3497040"/>
            <a:ext cx="619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写出上面定理的逆命题吗？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写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126828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理：线段垂直平分线上的点到这条线段两个端点的距离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0560" y="4148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点到一条线段两个端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90560" y="486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点在这条线段的垂直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79640" y="5589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到一条线段两个端点的距离相等的点在这条线段的垂直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57080" y="1916280"/>
            <a:ext cx="7488000" cy="1260360"/>
            <a:chOff x="757080" y="1916280"/>
            <a:chExt cx="7488000" cy="1260360"/>
          </a:xfrm>
        </p:grpSpPr>
        <p:sp>
          <p:nvSpPr>
            <p:cNvPr id="286" name=""/>
            <p:cNvSpPr/>
            <p:nvPr/>
          </p:nvSpPr>
          <p:spPr>
            <a:xfrm>
              <a:off x="757080" y="1985400"/>
              <a:ext cx="74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果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45840" y="1916280"/>
              <a:ext cx="48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个点在一条线段的垂直平分线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23960" y="2563560"/>
              <a:ext cx="63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个点到这条线段两个端点的距离相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07:51:25Z</dcterms:created>
  <dc:creator>User</dc:creator>
  <dc:description/>
  <cp:keywords/>
  <dc:language>en-US</dc:language>
  <cp:lastModifiedBy>微软用户</cp:lastModifiedBy>
  <dcterms:modified xsi:type="dcterms:W3CDTF">2010-02-15T19:37:49Z</dcterms:modified>
  <cp:revision>33</cp:revision>
  <dc:subject/>
  <dc:title>第一章 三角形的证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